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0CF0-7374-4926-AE16-25655E3E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87D8-4F76-43DE-BC14-125E4E98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F47BE-72E2-4AC4-A294-328F6E99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87C84-E5CD-4CB1-89DD-035FBD8E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ECDAF-9F9D-4748-9CDE-62AE4B88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2ECBC-B802-45AA-8891-685E86FE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AA0E5-FB28-42B0-8609-38340F39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0817E-0584-4EA3-A411-75CE5B7E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24123-0036-4B0E-B406-0124C54F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0769D-E557-447A-AAFE-45C84071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588E1-EA24-4132-A862-D408C811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50EE-F07B-42B7-B619-CFF4C235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22A8-7804-427A-9320-89B8DBBC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F951-DE0F-47B5-99DB-0A7BDADC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8420-01F5-40B7-9616-6052CEC9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AC30-0411-4564-B9A9-25E9BE03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869E-0486-4EFD-9043-1AC9CAB9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D1D3-7626-4B32-8CAB-7D6D3F73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C4B0-E459-490A-B0D2-552428B1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2CD5-BCEB-4078-BA01-AB0CDE7A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F8DE-8E5B-4DDB-BE3F-CEC2EC97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1943-F671-4CDC-BC97-C1B95760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476E-381A-426E-8CBC-CF1AF7CB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65EB-0B34-43A9-BBF8-76F74DD0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BF0B-E400-4F5E-836A-FFE3598C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4BDF-2F7A-4140-AC80-B1A20BDEC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BEF3E-84F8-4D7B-95DC-3C6AF9B2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CD9AE-FEBF-4A4E-BF18-458DA1CA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AE4A0-3E45-470E-BF8E-E4F2A73C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6B62C-C71A-429E-9E20-AAD25705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48380-076D-467E-9C3A-419116DA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75CB-5F85-4DB3-BED6-2F17AE4F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F5659-80DC-41CA-8416-8F13F4E4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7D262-BDF2-4C81-B8B6-4B7E3CEA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F523C-BFFC-4C10-97A1-876448E6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4BAA3-CF41-4A2B-B86A-C0BB70E7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85DE3-AFF9-4B82-990E-544E62B9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70843-C56D-44AA-9C41-B7A7B5BC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03E86-00DC-47FB-B3A4-2D601031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4342D-5584-44AC-AC95-D8B10057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675F5-A774-41E4-B242-8087A3CB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F1C64-D0AC-4135-A593-656754B8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CC10-2F00-4ED0-AE7D-7F9BF810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2E18A-E9F8-42C4-AA42-AB8A8E8F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0B08D-6DFA-4655-A39F-596FA09C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D70C1-04A9-4A5A-9D44-0FEE1E7C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711D4-C235-4926-A6BB-F05BD58E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433E4-55DA-419C-A377-956A6460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759D5-D57E-4968-BC91-8B43C8E9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878B8-1D69-4AE5-8A34-9518EC07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5EF7C-ED9F-40E7-9D24-0A3C89BEF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03374-7FA3-4D46-A60A-2B88200D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C83C1-8538-4658-BDDD-0D2BA7B8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82A3-C0A4-42E0-9155-C3F2BD06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17F01-5280-4AF6-9DF0-AB429DA5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1E411-D636-4A87-B547-D1444B80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E4B29-323A-4462-9BE1-EA76289A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34ABD-EDAF-425E-AC4F-3A08FBB7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89740-0404-4F33-8482-112E7895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CE287-5A79-4E18-B39A-9C92FC5E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3C332-D475-4DCB-85CA-090612E4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4F4A0-AFE5-4F5C-9C0D-F17F7298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04FCC-8A12-4179-A3A4-AE74768D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2E652-2BC6-4133-AFCD-66B1D8AC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4890-5585-4B66-AD01-B03BFF82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D108C-5405-4D35-9634-33E780F2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AB745-6EFA-47CD-A81B-8C20335E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A7A79-E5AA-41BE-8AF9-08C92B32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987C8-7543-4BF1-A9AC-1C0A2CB4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6FEFD-F2D0-4910-9762-CA259F93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46378-F8E4-4F22-99ED-60E6D48D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E30A8-CBCB-47F6-98DD-91534F4C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E02B6-316C-4FE1-8EA8-71E60793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8C2E6-EC48-4107-8AEC-5970CB1D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36DD0-AC65-436A-B227-CFA625D3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5C83-4C9B-447E-BE57-71876640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B73AD-287C-4324-BC67-61CDB902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DAF25-9862-47CB-8CDD-D1885F0C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DE37F-102E-427F-B5F5-FF2F22C1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F9FD3-B3EB-458D-B9CD-8BE5D172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44A6C-C46F-4AA5-A3D6-5B1F9DC7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67EB2-422D-4540-AC92-57743C75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3CDDC-8D27-4746-A67E-F13CC3A2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2D71D-8A76-42C1-8DD2-7F2B2695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629C3-B94D-45A6-84E0-929BA9DA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40484-1640-49E2-AE28-6E964366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335E-7E24-46EC-8E3B-8E44FC46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1BB63-88B6-4E77-8534-75BF4171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49334-5D72-46AD-B0E2-B4216CD7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B3B70-04A5-4869-85F9-10C5915C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A02DB-E9FC-4064-B98C-FBFA4095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0C66B-EF42-46B2-872F-429E54CF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82615-E05F-45BB-BC56-45AB8A97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1DD95-AF64-485D-89A0-48368D80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87059-B494-478F-9786-2D8D998B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1A1BD-8EEE-4AEB-B595-37EBA617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18124-2FD1-4EEF-AD3A-59CA4833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AFBF-BDBD-42B1-83FD-716D0D65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12A76-86E4-4112-9827-FE5E2CEE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84EBE-6DC3-4E6A-B424-00B08AF4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A87ED-E0B4-408C-9192-7630CCDA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E74A4-E830-4075-A4DE-85AA4046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1581D-38B8-4E12-B8B5-5C4AD7B8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0793E-1919-44D5-AF93-A183C253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1C74C-0221-42B7-A328-062184CB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A0488-D5F0-4602-94C6-34F3AB63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B81F5-DB81-4C87-80B4-C7B855DB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32EAD-DDDE-4514-A608-EFC8D54C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7A07-A62B-4322-92B7-35F6D42D2EA2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DA96-79B5-4760-BD15-AB2AA9E0C191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7238880" y="6356520"/>
            <a:ext cx="144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CF10-630F-48F3-982F-A4C3697B18F9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E93C-4631-4029-9E99-F95CAAD7CFDC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CCC9-74B6-47EB-974D-44C8DACD9FD1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5F64-7B01-4FE0-8F47-3D3BBF8532BE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8485-F5F3-4706-BF48-9848600CB435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CB1A-2E5A-4EA6-8F31-66BBCAD55512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3895-5DB5-4F9E-8FD9-509520B076B3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sto MT"/>
              </a:rPr>
              <a:t>AP US History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Puritans, Pilgrims, Separatists, and Dissenters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hurch of England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Aka the Anglican Church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Founded in 1534 by King Henry VIII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King tried to divorce his first wife (Catherine of Aragaon) but the Pope refused to dissolve the marriage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The King, angry, broke away from the Roman Catholic Church and created the Church of England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The Anglican Church remained similar to the Catholic Church and Puritans protested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Puritan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39800" y="2771280"/>
            <a:ext cx="7662960" cy="36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Encouraged by the teachings of John Calvin, the Puritans sought to “purify” the Anglican Church by ridding it of ceremony (like the Catholic Church)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Believed that they needed to remain in the Church to stand as examples and purify it from within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Once the Puritans left England for N. America, they no longer remained active in the Church of England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Known for work ethic and moral “compass”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44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Pilgrim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39800" y="2514600"/>
            <a:ext cx="7662960" cy="41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Known as separatist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18960" indent="-31896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Believed they had to leave the Church of England to escape a life they did not believe in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18960" indent="-31896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rst group set out in 1620 aboard the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Mayflower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r Virginia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18960" indent="-31896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Pilgrims set sail having agreed to work for 7 years for the Virginia Company in exchange for a share of the profit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18960" indent="-31896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hip landed at Plymouth Bay and 1</a:t>
            </a:r>
            <a:r>
              <a:rPr b="0" lang="en-US" sz="2200" spc="-1" strike="noStrike" baseline="30000">
                <a:solidFill>
                  <a:srgbClr val="595959"/>
                </a:solidFill>
                <a:latin typeface="Calisto MT"/>
              </a:rPr>
              <a:t>st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govt. document drafted was Mayflower Compact (separation of church and state, rule of the majority </a:t>
            </a:r>
            <a:r>
              <a:rPr b="0" lang="en-US" sz="2200" spc="-1" strike="noStrike">
                <a:solidFill>
                  <a:srgbClr val="59595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current democratic principles)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18960" indent="-31896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4991040" y="0"/>
            <a:ext cx="41529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Nonseparatist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739440" y="2440080"/>
            <a:ext cx="822492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Next wave of Puritans arriving in New England in 1629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ame due to oppression and persecution by English crown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While in England believed they had to remain within the Church of England to reform it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This wave called “Great Migration” of 1630s (MA Bay Colony)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Most famous governor was John Winthrop (City on a Hill)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Only males allowed to vote, only members of Congregational Church allowed to participate in religious ceremony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Dissenter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39800" y="2376000"/>
            <a:ext cx="766296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Anne Hutchinson: believed in antinomianism, that God’s chosen people did not have to obey God’s or man’s laws because they were already in God’s record as predestined to enter Heaven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he was banished from MA Bay Colony after claiming to receive direct revelation from God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Roger Williams: believed the colonists had no right to live on Native American land, advocated a complete separation of church and state, also banished from MA Bay Colony (later founded Providence)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Salem Witch Trial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739800" y="2312640"/>
            <a:ext cx="7662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1692 a group of young girls in Salem, MA began acting strangely after hearing tales of voodoo from their West Indian servan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Girls then began to accuse older, wealthy members of the community of witchcraft, leading to mass hysteria in Salem and other area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20 people were executed and the prestige of traditional Puritan clergy was damaged beyond repair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1:45:49Z</dcterms:created>
  <dc:creator>Mark Scacewater</dc:creator>
  <dc:description/>
  <dc:language>en-US</dc:language>
  <cp:lastModifiedBy>Mark Scacewater</cp:lastModifiedBy>
  <dcterms:modified xsi:type="dcterms:W3CDTF">2011-09-09T20:51:06Z</dcterms:modified>
  <cp:revision>7</cp:revision>
  <dc:subject/>
  <dc:title>AP US History</dc:title>
</cp:coreProperties>
</file>